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734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73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4320" cy="364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624560"/>
            <a:ext cx="54864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8BA7-583E-42F8-A638-522A71AA6AB4}" type="slidenum">
              <a:rPr b="0" lang="es-UY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4320" cy="36496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624560"/>
            <a:ext cx="54864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3 Marcador de número de diapositiva"/>
          <p:cNvSpPr/>
          <p:nvPr/>
        </p:nvSpPr>
        <p:spPr>
          <a:xfrm>
            <a:off x="388476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0A5F-D970-47F1-9E34-7006FEE7481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450F-0109-4923-B3BE-255B0FF8C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F304-DD66-434B-BD03-FE9EE7CF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A842-9249-4901-BA4F-081371540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C25D-220A-4442-96FF-A4737D1B8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C249-8E14-413C-975C-0557BEA50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597B-B272-47F7-A47D-CB765DA4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0A1A-F968-4ECA-B645-1AC7173D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C976-5A89-4662-8D47-3A0E0B93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5DC7-DA3E-4E8A-873C-C1CF58CD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7336-D947-4CAC-942D-9B3C59FE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F175-3E0E-4B78-9AA2-DE16EEFF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47AD-2517-47BC-9AB0-6BD7025A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F943-60C5-4CFB-A3FA-8780AEF9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C1E7-9B3E-4C06-B2CD-FF27989F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2000-2CB8-463C-8DB9-79999320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6938-D3C1-4C71-999C-FB7A54D22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1510-7D56-4948-86DB-7EB10E6C2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2C52-491F-4A85-B35F-1F417865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49D3-A440-4C7A-8820-620CE4D5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0AC3-27C8-480C-8B53-5EDE43D6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ED4C-2077-4AE6-83E1-98AAC380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209D-0B87-4AC3-A38E-3E8EA033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29DC-2E59-4F44-BC91-2D739980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2906-2F80-4D48-A7CD-302AC1FF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9DF9-9C6A-4271-93C4-5F5BD81CE08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lika 1" descr=""/>
          <p:cNvPicPr/>
          <p:nvPr/>
        </p:nvPicPr>
        <p:blipFill>
          <a:blip r:embed="rId2"/>
          <a:stretch/>
        </p:blipFill>
        <p:spPr>
          <a:xfrm>
            <a:off x="0" y="95400"/>
            <a:ext cx="9144000" cy="666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lika 1" descr=""/>
          <p:cNvPicPr/>
          <p:nvPr/>
        </p:nvPicPr>
        <p:blipFill>
          <a:blip r:embed="rId2"/>
          <a:stretch/>
        </p:blipFill>
        <p:spPr>
          <a:xfrm>
            <a:off x="0" y="95400"/>
            <a:ext cx="9144000" cy="6667200"/>
          </a:xfrm>
          <a:prstGeom prst="rect">
            <a:avLst/>
          </a:prstGeom>
          <a:ln w="0">
            <a:noFill/>
          </a:ln>
        </p:spPr>
      </p:pic>
      <p:pic>
        <p:nvPicPr>
          <p:cNvPr id="43" name="Slika 7" descr=""/>
          <p:cNvPicPr/>
          <p:nvPr/>
        </p:nvPicPr>
        <p:blipFill>
          <a:blip r:embed="rId3"/>
          <a:stretch/>
        </p:blipFill>
        <p:spPr>
          <a:xfrm>
            <a:off x="6297480" y="4863960"/>
            <a:ext cx="1212840" cy="908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ndalus"/>
                <a:ea typeface="Andalu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ndalus"/>
                <a:ea typeface="Andalus"/>
              </a:rPr>
              <a:t>Stična, 02. oktober 2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21CF-9167-4395-8EF6-82226CA16D7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5545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ndalus"/>
                <a:ea typeface="Andalus"/>
              </a:rPr>
              <a:t>VABI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Rectangle 5"/>
          <p:cNvGrpSpPr/>
          <p:nvPr/>
        </p:nvGrpSpPr>
        <p:grpSpPr>
          <a:xfrm>
            <a:off x="1189080" y="1268280"/>
            <a:ext cx="6259320" cy="4535640"/>
            <a:chOff x="1189080" y="1268280"/>
            <a:chExt cx="6259320" cy="4535640"/>
          </a:xfrm>
        </p:grpSpPr>
        <p:pic>
          <p:nvPicPr>
            <p:cNvPr id="94" name="Rectangle 5" descr=""/>
            <p:cNvPicPr/>
            <p:nvPr/>
          </p:nvPicPr>
          <p:blipFill>
            <a:blip r:embed="rId1"/>
            <a:stretch/>
          </p:blipFill>
          <p:spPr>
            <a:xfrm>
              <a:off x="1190520" y="1268280"/>
              <a:ext cx="6254280" cy="453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189080" y="1268280"/>
              <a:ext cx="6259320" cy="453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Zabava, smeh in razveseljevanje bližnjih večajo življenjsko srečo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Življenje je lovljenje ravnotežja med odgovornostmi, delom, počitkom in zabavo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Vse ima svoje mesto v velikem zemljevidu življenja. Zato se je treba nagraditi s časom za zabavo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Ta te napolni z energijo, ki jo potrebuješ, da se sreča lahko obnavlja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Zato te prisrčno vabim, da se poveseliš z mano - ob mojem prihajajočem 40. rojstnem dnev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l-SI" sz="1600" spc="-1" strike="noStrike" u="sng">
                  <a:solidFill>
                    <a:srgbClr val="000000"/>
                  </a:solidFill>
                  <a:uFillTx/>
                  <a:latin typeface="Andalus"/>
                  <a:ea typeface="Andalus"/>
                </a:rPr>
                <a:t>dne 23. oktobra 2014 ob 14.10 minut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Se dobimo na </a:t>
              </a:r>
              <a:r>
                <a:rPr b="1" i="1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parkirišču za osnovno šolo  </a:t>
              </a:r>
              <a:r>
                <a:rPr b="0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in skupaj odidemo v neznan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Melita Žlajpa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elita</cp:lastModifiedBy>
  <cp:lastPrinted>2014-10-02T08:33:03Z</cp:lastPrinted>
  <dcterms:modified xsi:type="dcterms:W3CDTF">2014-10-13T09:18:08Z</dcterms:modified>
  <cp:revision>75</cp:revision>
  <dc:subject/>
  <dc:title>TITLE</dc:title>
</cp:coreProperties>
</file>